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44E9-B3EF-4730-87F7-A72CE2350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CCF2-3392-4B46-A6DC-F8C556FC4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824C-593D-4AA1-9882-508799685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91A4-352E-4D06-A2D8-33FEC9656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E45A-515B-4CA7-9255-84831E282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31E5-4C7B-4409-BBDB-986D04CE4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4C6B-419F-402C-BCB1-9A2B621B5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514F-8FB5-4434-A0BF-2BE08463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5E90-9961-4C1C-90AC-40ED43EA9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E656-98B0-46F4-BBBC-7B71C61F0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6AF4-922F-49E9-9E01-40873B10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86DC-E590-4461-BDE4-3435543DF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1242-D5C1-4305-97EB-003AFB6426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evernote.com/webclipper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www.evernote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840-BEF5-4054-B53C-5D7DC07F8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ving Web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E83-0D78-4D05-9294-5E63AF9FFD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378240" cy="1866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457200" y="99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just click the Evernote button in my browser toolb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3378240" cy="2121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57200" y="274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brand new note is created for me with the content that I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0880" y="4191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Web Clipper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vernote.com/webclipper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149-958C-4172-94F5-3BD2EC891A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talling 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1" name="Content Placeholder 1" descr=""/>
          <p:cNvPicPr/>
          <p:nvPr/>
        </p:nvPicPr>
        <p:blipFill>
          <a:blip r:embed="rId1"/>
          <a:srcRect l="1165" t="0" r="1165" b="0"/>
          <a:stretch/>
        </p:blipFill>
        <p:spPr>
          <a:xfrm>
            <a:off x="4800600" y="1523880"/>
            <a:ext cx="417528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3408-840D-4570-8080-1391F65D5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6A7-9121-4F52-8632-E2E36DCD16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76320" y="114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download the installation software. Open your favorite web browser and visit the Evernote Web sit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vernot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The Web site will automatically detect what type of computer you are using and provide you with the correct download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ing an Accou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629C-6365-46C5-9C5B-9CE953E62D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378240" cy="288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3782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04920" y="83808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time you launch the Evernote application, you will be prompted to enter your username and password, or create a new Evernote account. To create a new Evernote account, click "Get a free Evernote account now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3962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ing this link will open a new window where you can input your information and choose a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first 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6868-EFDA-4893-8D22-FC68ECE186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378240" cy="135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6269040" cy="2870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0492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op of the main Evernote window, you'll see a large button labeled "New N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66688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at button and Evernote will create a brand new note and place the cursor into the body of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first 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AFC-11A8-45BA-8B98-901539B577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3686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419720" y="3368520"/>
            <a:ext cx="4349520" cy="1990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5228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give the note any title you like. For this example, a simple 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527720" y="1339920"/>
            <a:ext cx="7617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4527720" y="3487680"/>
            <a:ext cx="7617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4495680" y="4103640"/>
            <a:ext cx="274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is the best Math Camppp ev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52280" y="34290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click in the main body of the note and start ty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an Imag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CD0-B23C-4ABB-AFC6-4EB74AD023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841760" cy="1911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609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say you have an image file on your computer's desktop that you'd like to add to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57200" y="2590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main Evernote window, click that "New Note" button again, fill in a title for your first image note, and drag the image directly into the note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an Imag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E849-28D4-45BC-9E8E-CC2FE5228C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6769080" cy="3225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228600" y="914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echnique can be used when saving images from the web. Simply click and drag your image and drop your image into the body of a note. That's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0" r="8800" b="0"/>
          <a:stretch/>
        </p:blipFill>
        <p:spPr>
          <a:xfrm>
            <a:off x="3603600" y="152280"/>
            <a:ext cx="5537160" cy="441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yncing your No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4B2-8226-4E1E-96AB-71CCFCE20D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04920" y="9907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Evernote applications are in regular contact with Evernote on the Web. Whenever a new note is created or edited on any of your Evernote-capable devices, the note is uploaded to the Evernote on the Web where all of your other devices will download it the next time they sy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65760" y="5410080"/>
            <a:ext cx="3378240" cy="838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689440" y="4191120"/>
            <a:ext cx="34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manually sync any time by clicking the "Sync"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ving Web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24A-7403-4DD4-A412-FCB2ED152B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4920" y="10666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 content from the web to your Evernote account is quick and easy with the Evernote Web Clipper. It works a little differently depending on the browser you're using, but it's as easy as highlighting part of the web page you're viewing and clicking a button in your browser's toolbar or, if you use Internet Explorer, right-cli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78240" cy="294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6-19T17:52:46Z</dcterms:modified>
  <cp:revision>16</cp:revision>
  <dc:subject/>
  <dc:title>&lt;Title&gt;</dc:title>
</cp:coreProperties>
</file>